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8D0-2A1A-4E7A-AC08-B693AA70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5E2-7309-4650-8FA8-F69D383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EE1-455F-4615-97E3-6ACE1285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9D9-6FE0-45A0-BE49-101FF7B4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AC1-3227-488E-87DD-DA97BCD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71A-D1ED-41D1-AA90-3740A52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2E8-BB4B-45A7-B44C-FD3E756B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2AC-365C-4351-A28E-7000A821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AFF-B776-4D98-AD9C-2BDAF2F4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507-CBCD-4D75-B695-0BA65F47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2BE-1764-4166-9C4B-3D96DEA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328-8822-40EA-9DA3-EFC8DB2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CE92-DB08-48DF-9BF8-CB4A8A1E1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ion of research proposal/synop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posal is detailed description of    proposed study design to investigate a give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format for research proposal given by organization is followed to prepare a resear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/ reasons for selection of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section, reasons for selection of research problem are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ction must be as brief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in the form of points should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given reasons should match with the background present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 of stud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section researcher write his targets for conduction of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 of study should be based on data described in background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 of study should be achie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pecimen objective of study on any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scope of the study is described in terms of researcher’s h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assumes that this study will be valuable in some w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researcher should claims about what 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ponent should directly relate to the objectives of study. No person can claim above than what he aim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pecimen for significance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s are interrogative statements based on research object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s are framed keeping in view the objectives of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ypothesis describes relationship between at least two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s provide basis to researcher to develop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are necessarily framed in quantitative studies where history of research on the topic provide evidence for expectation of same typ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wo hypotheses on any type of any of the following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art following aspects are d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and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and de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ched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researcher prepare a schedule about each action keeping in mind the total availab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eveloped in written form before starting the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se of research for degree requirement or funded research, it is approved by authorities in adv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study, study is completed according to approved research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researcher has to claim expenditures for the study, he make a budget regarding each aspect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ng and publishing of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ase, research is self funded, researcher makes a budget to review; is research possible in avail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opic and prepare a research proposal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Research Propos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 of research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pproval by supervisor and university/ fund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uidelines of co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aluation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mprovement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of Research Propos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 of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/ reasons for selection of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 o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ce o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 of hypo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ations &amp; De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) Population,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)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) Research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) Data collectio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) Data Analysi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 (if appropri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key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section first of all some orientation about the topic is presented. For this purpose, first of all 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related to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tated that shows, why this topic is selected for study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this s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ituations that has inspired you to stud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Describe ,What you think can be found out by th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, How this study can be valuable to sol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d/ stated probl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material given to evaluate the introduction of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ment of research probl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of study is described under the heading (statement of research proble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tatement of research problem should in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Topic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  Variable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  Population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statement of statement of research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tatement indicate topic of study, relationship between variables of interest and population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standardized test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Studies( elective) for class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parent’s educational stat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ducational attainment of second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bove examples( in previous slide) and make lists of follo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Topic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  Variable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  Population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a statement of problem of our own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43:33Z</dcterms:created>
  <dc:creator>GBS</dc:creator>
  <dc:description/>
  <dc:language>en-US</dc:language>
  <cp:lastModifiedBy>RIMSA TAHIR</cp:lastModifiedBy>
  <dcterms:modified xsi:type="dcterms:W3CDTF">2020-04-01T13:37:33Z</dcterms:modified>
  <cp:revision>75</cp:revision>
  <dc:subject/>
  <dc:title>Preparation of research proposal/synopsis</dc:title>
</cp:coreProperties>
</file>